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88D-55E0-497E-AB4E-2B3B79D6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79280" y="42487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CCF-0C32-4550-85CC-10F88431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3060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712-153C-4F53-BCF9-4F604DE8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50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21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79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50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821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729-4E9C-47C7-9695-14F7E0B1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D02D-F3F7-4480-A619-D5945952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E0FF-6510-460E-9156-852F95D9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CB98-E7BB-4E28-AD12-61AA837D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4375-B89E-4CCD-8F0C-21F09DB6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A8A9-53B2-4BAF-85C8-2B8E92FA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79280" y="301680"/>
            <a:ext cx="849132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6BD3-2499-4A6E-854F-E406EFB1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C04D-A21E-4A95-B4C0-BDB7786D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667-DC14-4652-A797-EF44A8EF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3060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073E-5521-4675-9BBC-25DE416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6A58-DB56-4EF0-9E9E-ED795472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79280" y="42487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9BD8-2B1A-4401-884D-85A71B74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43060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3270-F415-467A-BC69-DC2727AC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50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21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79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50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821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0CC3-3B0E-4A0E-9DBE-04ABC9C6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44D74-C264-4640-ACEC-A62A921A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B9B5-3EA4-4E69-A823-75351248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8F7A-54BD-43C5-A5BB-64DB3AC6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853C-063B-4CA6-BD02-0DBEB586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63B89-11AB-4BF9-870F-5201745B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E18-4AC5-4A5D-92C7-30E453A0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79280" y="301680"/>
            <a:ext cx="849132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47874-1F98-47BD-9BD8-14E4BCEA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3E7C-C187-49C6-B205-76021BC9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43060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821A-B284-4CC0-9B94-7E5FBA2A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8C4E1-8128-4584-8F53-C360F7FD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79280" y="42487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83942-E910-4EDA-862F-8631834F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43060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E3D22-8215-40CA-B4C2-EA442683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50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1280" y="17683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79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950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821280" y="4248720"/>
            <a:ext cx="273384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E254-2F0D-4088-88BB-09BBFB6F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2E6-B38E-4B8C-A419-EA26F7A5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500-8993-4772-BB62-7E92EA8F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79280" y="301680"/>
            <a:ext cx="849132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0E3-A619-49D0-A8B7-2763560C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DE2-DCFB-4520-AE0D-12EC2471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30600" y="42487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F7E-DD56-400B-BD44-6D469992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7928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0600" y="1768320"/>
            <a:ext cx="414360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79280" y="4248720"/>
            <a:ext cx="8491320" cy="226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41D-C5D5-4A3B-8283-B7501E86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"/>
          <p:cNvGrpSpPr/>
          <p:nvPr/>
        </p:nvGrpSpPr>
        <p:grpSpPr>
          <a:xfrm>
            <a:off x="0" y="1158840"/>
            <a:ext cx="10090080" cy="6400800"/>
            <a:chOff x="0" y="1158840"/>
            <a:chExt cx="10090080" cy="6400800"/>
          </a:xfrm>
        </p:grpSpPr>
        <p:pic>
          <p:nvPicPr>
            <p:cNvPr id="1" name="Picture 14" descr="content-gradient.jpg"/>
            <p:cNvPicPr/>
            <p:nvPr/>
          </p:nvPicPr>
          <p:blipFill>
            <a:blip r:embed="rId2"/>
            <a:stretch/>
          </p:blipFill>
          <p:spPr>
            <a:xfrm>
              <a:off x="0" y="1158840"/>
              <a:ext cx="82548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5" descr="bottom-content-slogan.jpg"/>
            <p:cNvPicPr/>
            <p:nvPr/>
          </p:nvPicPr>
          <p:blipFill>
            <a:blip r:embed="rId3"/>
            <a:stretch/>
          </p:blipFill>
          <p:spPr>
            <a:xfrm>
              <a:off x="0" y="6829560"/>
              <a:ext cx="781560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8" descr="content-line.jpg"/>
            <p:cNvPicPr/>
            <p:nvPr/>
          </p:nvPicPr>
          <p:blipFill>
            <a:blip r:embed="rId4"/>
            <a:stretch/>
          </p:blipFill>
          <p:spPr>
            <a:xfrm>
              <a:off x="1098720" y="1187280"/>
              <a:ext cx="8991360" cy="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1" descr="aspin-logo.jpg"/>
            <p:cNvPicPr/>
            <p:nvPr/>
          </p:nvPicPr>
          <p:blipFill>
            <a:blip r:embed="rId5"/>
            <a:stretch/>
          </p:blipFill>
          <p:spPr>
            <a:xfrm>
              <a:off x="7920360" y="6775560"/>
              <a:ext cx="1868760" cy="69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079640" y="7380360"/>
            <a:ext cx="17683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287520" y="7380360"/>
            <a:ext cx="31921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69080" y="7380360"/>
            <a:ext cx="1008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1AC407-6D2B-40F0-8C86-EABECA5DA98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2"/>
          <p:cNvGrpSpPr/>
          <p:nvPr/>
        </p:nvGrpSpPr>
        <p:grpSpPr>
          <a:xfrm>
            <a:off x="0" y="1158840"/>
            <a:ext cx="10090080" cy="6400800"/>
            <a:chOff x="0" y="1158840"/>
            <a:chExt cx="10090080" cy="6400800"/>
          </a:xfrm>
        </p:grpSpPr>
        <p:pic>
          <p:nvPicPr>
            <p:cNvPr id="47" name="Picture 14" descr="content-gradient.jpg"/>
            <p:cNvPicPr/>
            <p:nvPr/>
          </p:nvPicPr>
          <p:blipFill>
            <a:blip r:embed="rId2"/>
            <a:stretch/>
          </p:blipFill>
          <p:spPr>
            <a:xfrm>
              <a:off x="0" y="1158840"/>
              <a:ext cx="82548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5" descr="bottom-content-slogan.jpg"/>
            <p:cNvPicPr/>
            <p:nvPr/>
          </p:nvPicPr>
          <p:blipFill>
            <a:blip r:embed="rId3"/>
            <a:stretch/>
          </p:blipFill>
          <p:spPr>
            <a:xfrm>
              <a:off x="0" y="6829560"/>
              <a:ext cx="781560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8" descr="content-line.jpg"/>
            <p:cNvPicPr/>
            <p:nvPr/>
          </p:nvPicPr>
          <p:blipFill>
            <a:blip r:embed="rId4"/>
            <a:stretch/>
          </p:blipFill>
          <p:spPr>
            <a:xfrm>
              <a:off x="1098720" y="1187280"/>
              <a:ext cx="8991360" cy="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1" descr="aspin-logo.jpg"/>
            <p:cNvPicPr/>
            <p:nvPr/>
          </p:nvPicPr>
          <p:blipFill>
            <a:blip r:embed="rId5"/>
            <a:stretch/>
          </p:blipFill>
          <p:spPr>
            <a:xfrm>
              <a:off x="7920360" y="6775560"/>
              <a:ext cx="1868760" cy="69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3"/>
          <p:cNvGrpSpPr/>
          <p:nvPr/>
        </p:nvGrpSpPr>
        <p:grpSpPr>
          <a:xfrm>
            <a:off x="0" y="0"/>
            <a:ext cx="10080720" cy="7559640"/>
            <a:chOff x="0" y="0"/>
            <a:chExt cx="10080720" cy="7559640"/>
          </a:xfrm>
        </p:grpSpPr>
        <p:sp>
          <p:nvSpPr>
            <p:cNvPr id="52" name="Rectangle 16"/>
            <p:cNvSpPr/>
            <p:nvPr/>
          </p:nvSpPr>
          <p:spPr>
            <a:xfrm>
              <a:off x="0" y="0"/>
              <a:ext cx="10080720" cy="755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" name="Picture 17" descr="girl_laptop.jpg"/>
            <p:cNvPicPr/>
            <p:nvPr/>
          </p:nvPicPr>
          <p:blipFill>
            <a:blip r:embed="rId6"/>
            <a:stretch/>
          </p:blipFill>
          <p:spPr>
            <a:xfrm>
              <a:off x="5289840" y="179280"/>
              <a:ext cx="4502880" cy="66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9" descr="aspin-training.jpg"/>
            <p:cNvPicPr/>
            <p:nvPr/>
          </p:nvPicPr>
          <p:blipFill>
            <a:blip r:embed="rId7"/>
            <a:stretch/>
          </p:blipFill>
          <p:spPr>
            <a:xfrm>
              <a:off x="302040" y="6891120"/>
              <a:ext cx="271656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0" descr="aspin-elearning.jpg"/>
            <p:cNvPicPr/>
            <p:nvPr/>
          </p:nvPicPr>
          <p:blipFill>
            <a:blip r:embed="rId8"/>
            <a:stretch/>
          </p:blipFill>
          <p:spPr>
            <a:xfrm>
              <a:off x="3124800" y="6871680"/>
              <a:ext cx="315756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1" descr="aspin-consulting.jpg"/>
            <p:cNvPicPr/>
            <p:nvPr/>
          </p:nvPicPr>
          <p:blipFill>
            <a:blip r:embed="rId9"/>
            <a:stretch/>
          </p:blipFill>
          <p:spPr>
            <a:xfrm>
              <a:off x="6418080" y="6880680"/>
              <a:ext cx="332280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2" descr="coverslide-gradient.jpg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452124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3" descr="aspin-logo.jpg"/>
            <p:cNvPicPr/>
            <p:nvPr/>
          </p:nvPicPr>
          <p:blipFill>
            <a:blip r:embed="rId11"/>
            <a:stretch/>
          </p:blipFill>
          <p:spPr>
            <a:xfrm>
              <a:off x="359640" y="1738800"/>
              <a:ext cx="4152960" cy="153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1079640" y="7380360"/>
            <a:ext cx="17683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287520" y="7380360"/>
            <a:ext cx="31921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769080" y="7380360"/>
            <a:ext cx="1008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94EF1F-BF76-4C76-B25B-447F9E1271F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2"/>
          <p:cNvGrpSpPr/>
          <p:nvPr/>
        </p:nvGrpSpPr>
        <p:grpSpPr>
          <a:xfrm>
            <a:off x="0" y="1158840"/>
            <a:ext cx="10090080" cy="6400800"/>
            <a:chOff x="0" y="1158840"/>
            <a:chExt cx="10090080" cy="6400800"/>
          </a:xfrm>
        </p:grpSpPr>
        <p:pic>
          <p:nvPicPr>
            <p:cNvPr id="101" name="Picture 14" descr="content-gradient.jpg"/>
            <p:cNvPicPr/>
            <p:nvPr/>
          </p:nvPicPr>
          <p:blipFill>
            <a:blip r:embed="rId2"/>
            <a:stretch/>
          </p:blipFill>
          <p:spPr>
            <a:xfrm>
              <a:off x="0" y="1158840"/>
              <a:ext cx="82548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bottom-content-slogan.jpg"/>
            <p:cNvPicPr/>
            <p:nvPr/>
          </p:nvPicPr>
          <p:blipFill>
            <a:blip r:embed="rId3"/>
            <a:stretch/>
          </p:blipFill>
          <p:spPr>
            <a:xfrm>
              <a:off x="0" y="6829560"/>
              <a:ext cx="7815600" cy="4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8" descr="content-line.jpg"/>
            <p:cNvPicPr/>
            <p:nvPr/>
          </p:nvPicPr>
          <p:blipFill>
            <a:blip r:embed="rId4"/>
            <a:stretch/>
          </p:blipFill>
          <p:spPr>
            <a:xfrm>
              <a:off x="1098720" y="1187280"/>
              <a:ext cx="8991360" cy="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1" descr="aspin-logo.jpg"/>
            <p:cNvPicPr/>
            <p:nvPr/>
          </p:nvPicPr>
          <p:blipFill>
            <a:blip r:embed="rId5"/>
            <a:stretch/>
          </p:blipFill>
          <p:spPr>
            <a:xfrm>
              <a:off x="7920360" y="6775560"/>
              <a:ext cx="1868760" cy="69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3"/>
          <p:cNvGrpSpPr/>
          <p:nvPr/>
        </p:nvGrpSpPr>
        <p:grpSpPr>
          <a:xfrm>
            <a:off x="0" y="0"/>
            <a:ext cx="10080720" cy="7559640"/>
            <a:chOff x="0" y="0"/>
            <a:chExt cx="10080720" cy="7559640"/>
          </a:xfrm>
        </p:grpSpPr>
        <p:sp>
          <p:nvSpPr>
            <p:cNvPr id="106" name="Rectangle 16"/>
            <p:cNvSpPr/>
            <p:nvPr/>
          </p:nvSpPr>
          <p:spPr>
            <a:xfrm>
              <a:off x="0" y="0"/>
              <a:ext cx="10080720" cy="755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" name="Picture 17" descr="girl_laptop.jpg"/>
            <p:cNvPicPr/>
            <p:nvPr/>
          </p:nvPicPr>
          <p:blipFill>
            <a:blip r:embed="rId6"/>
            <a:stretch/>
          </p:blipFill>
          <p:spPr>
            <a:xfrm>
              <a:off x="5289840" y="179280"/>
              <a:ext cx="4502880" cy="66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9" descr="coverslide-gradient.jpg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452124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0" descr="aspin-slogan.jpg"/>
            <p:cNvPicPr/>
            <p:nvPr/>
          </p:nvPicPr>
          <p:blipFill>
            <a:blip r:embed="rId8"/>
            <a:stretch/>
          </p:blipFill>
          <p:spPr>
            <a:xfrm>
              <a:off x="1079640" y="6842520"/>
              <a:ext cx="815364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1" descr="aspin-training-badge.jpg"/>
            <p:cNvPicPr/>
            <p:nvPr/>
          </p:nvPicPr>
          <p:blipFill>
            <a:blip r:embed="rId9"/>
            <a:stretch/>
          </p:blipFill>
          <p:spPr>
            <a:xfrm>
              <a:off x="2160000" y="3491640"/>
              <a:ext cx="6552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2" descr="aspin-elearning-badge.jpg"/>
            <p:cNvPicPr/>
            <p:nvPr/>
          </p:nvPicPr>
          <p:blipFill>
            <a:blip r:embed="rId10"/>
            <a:stretch/>
          </p:blipFill>
          <p:spPr>
            <a:xfrm>
              <a:off x="2160000" y="4320000"/>
              <a:ext cx="6552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3" descr="aspin-consulting-badge.jpg"/>
            <p:cNvPicPr/>
            <p:nvPr/>
          </p:nvPicPr>
          <p:blipFill>
            <a:blip r:embed="rId11"/>
            <a:stretch/>
          </p:blipFill>
          <p:spPr>
            <a:xfrm>
              <a:off x="2160000" y="5148000"/>
              <a:ext cx="665280" cy="6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4" descr="aspin-logo.jpg"/>
            <p:cNvPicPr/>
            <p:nvPr/>
          </p:nvPicPr>
          <p:blipFill>
            <a:blip r:embed="rId12"/>
            <a:stretch/>
          </p:blipFill>
          <p:spPr>
            <a:xfrm>
              <a:off x="359640" y="1738800"/>
              <a:ext cx="4152960" cy="153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itle 1"/>
          <p:cNvSpPr/>
          <p:nvPr/>
        </p:nvSpPr>
        <p:spPr>
          <a:xfrm>
            <a:off x="503280" y="324000"/>
            <a:ext cx="302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dobe Heiti Std R"/>
                <a:ea typeface="Adobe Heiti Std R"/>
              </a:rPr>
              <a:t>Thank 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301680"/>
            <a:ext cx="84913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079280" y="1768320"/>
            <a:ext cx="84913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079640" y="7380360"/>
            <a:ext cx="17683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287520" y="7380360"/>
            <a:ext cx="31921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769080" y="7380360"/>
            <a:ext cx="10080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3AD025-D980-431F-A142-3450C0D007B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1474560"/>
            <a:ext cx="8491320" cy="24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NBN e-learning Program 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Evaluation &amp; Organisational Read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79280" y="4572000"/>
            <a:ext cx="849132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rgaret Aspin   Managing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r Ronald Aspin   Senior Consul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9280" y="250560"/>
            <a:ext cx="849132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ey findings - prelim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79280" y="1692000"/>
            <a:ext cx="84913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onnecting to the NB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pectations that connection to roll out areas would not be an issue – not always so, e.g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rmidale only connected in outer are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BN ready house in Brunswick charging $3,00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BN connected centres heavily boo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9280" y="178920"/>
            <a:ext cx="84913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ey findings - prelim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79280" y="1547280"/>
            <a:ext cx="84913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ardware and s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isting hardware and software were not adequate for e-learning using NBN broadband, e.g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ld PCs had problems with audio and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eviously useful e-learning software wasn’t up to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eadsets were a comm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280" y="250560"/>
            <a:ext cx="849132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ey findings - prelim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79280" y="1474560"/>
            <a:ext cx="849132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reless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ous streaming with 10 plus (?) computers required each computer to be hardwire conn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from the router when using wireless affected download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0" y="250560"/>
            <a:ext cx="84916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ey findings - prelim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79280" y="1547280"/>
            <a:ext cx="84913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ctations of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have expectations that everything will work immediately and smoo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onferencing confronting for some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on was an issue for some - needs to be simple and obvious or time to familiarise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0" y="250560"/>
            <a:ext cx="84916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ey findings - prelim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79280" y="1547280"/>
            <a:ext cx="84913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members, teachers and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issue for all e-lear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right people o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, prepare, test,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eople who know audio and video as well as basic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0" y="250560"/>
            <a:ext cx="84916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ummary - prelim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79280" y="1331640"/>
            <a:ext cx="849132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lots have been a significant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ed wide range of technologies; PoV, virtual world, 3D interactive gaming, HD video streaming, synchronous multi computer chat and streaming, mobile classroom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RTOs; community, TAFE, enterprise,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ed boundaries and most, but not all, found solutions to problem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9280" y="301320"/>
            <a:ext cx="84913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Overall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79280" y="1547280"/>
            <a:ext cx="84913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eam experi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edominantly excitement and enthusiasm for more, met most expectation for most and exceeded expectation for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arner experi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gaged, positive learning experience, minimal negative feed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79280" y="1547280"/>
            <a:ext cx="84913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ank you all and a special thanks to those who have shared their experience with us perso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4:48:22Z</dcterms:created>
  <dc:creator>MJR</dc:creator>
  <dc:description/>
  <dc:language>en-US</dc:language>
  <cp:lastModifiedBy>am</cp:lastModifiedBy>
  <dcterms:modified xsi:type="dcterms:W3CDTF">2012-05-29T04:58:03Z</dcterms:modified>
  <cp:revision>28</cp:revision>
  <dc:subject/>
  <dc:title>Slide 1</dc:title>
</cp:coreProperties>
</file>